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5A1A-D3B2-45FB-897B-F27783297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EE0A-C27D-40EB-B20B-72E21687B5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5E6D-F4DC-4D7E-8480-7B42EEC450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9D44CC-16A7-4F83-9151-BB08E9D699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127058-C592-4CB8-8213-83A919E6A2DA}" type="datetime">
              <a:rPr b="0" lang="fr-FR" sz="1200" spc="-1" strike="noStrike">
                <a:solidFill>
                  <a:srgbClr val="000000"/>
                </a:solidFill>
                <a:latin typeface="Times New Roman"/>
                <a:ea typeface="Arial"/>
              </a:rPr>
              <a:t>30/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F09C-F541-4FC4-BA81-C61E9AB6E0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B3E0-865E-42A7-935B-1A7E25E83D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937F7-79AD-426D-871C-0D5BEE3E1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0AE4-6BAB-4CE6-9553-C4A58CA72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34FBD-AE13-4AF9-94B9-5399A86A1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8B53F-C240-452D-A08E-A9E8A2982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C4836-FC1B-41D0-8BA2-48C92584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B1C4-5841-4123-AACD-C867AD0F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7B273-4F0D-4C1D-AF1C-B197AF17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3FEA8-2AAE-4245-AD8D-D234AA325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0D6DD-A1E4-41E2-8417-F9C9AFC08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AE5F-6817-42A6-98FF-83EA1E53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395E-F725-4123-995C-A69FE810F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1C57-6602-48BB-82BE-45D18407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8A6D-76F9-47A0-A7DB-562A31A29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53517F8-F056-4AF0-8936-2CEA6869E45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F14C-A26E-4EE7-A473-E23934AFFE8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4CA4-97B1-4C49-BF41-69EBB3A73B4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